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9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FAF-C356-40AE-A8F8-0F7C1DD3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00C2-58B6-4503-A211-72F08E07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E3E-603F-438F-B111-36984DC5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065-3E8B-4D48-BAB2-4B9314C7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3F8F-620D-4EBA-8739-7DDCA673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EB45-4574-4F9F-B8BC-F13C86A5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3B1C-02A1-430F-89B8-EAF35044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CC3A-AE37-4004-9F99-D30A8361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230D-41C5-4EB1-8328-CC831AE1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8A29-1E06-48F7-830A-76F5FCB8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B9EC-3139-4F53-B75B-9BF4F2E6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197-60F2-44BF-A4E7-072CC98A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796D-0973-4550-83BA-FC244F47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9F5C-D438-4EDF-920A-ACB81820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46E4-E688-4059-BF41-B76FDE4E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9F83-D388-4C9F-BEC9-36747000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349A-DE4C-4215-8F20-2634DB22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7A28E-4284-4545-BD3B-B4086992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E008B-D255-48D6-A529-12CC006B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79DD2-1C76-46F5-ABDB-A2237778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B3999-D1A0-4903-9694-44E4EF49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E5B2A-BCA7-4DD2-988D-1804E1B5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C95-4C5D-4B75-817D-9E75AD35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B98F0-C93F-44C5-9D3B-FB608E66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3A539-1CFE-4BBF-A51A-E277A470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31FC2-E991-4FB0-8ADD-C3468FEE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1FD39-AF68-413D-A402-257C2CF3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EEAD5-C434-4072-B513-90D53B85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C04FA-4CBC-4007-A73E-9AB6D342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94224-6BB2-4C28-9200-936E6A37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64CF17-3138-4768-84D7-EA1D2E91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A3D0F5-9C51-4818-856E-8D2D3F60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509816-E8DD-4E71-8BE0-82876A2D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51E-F8F6-4542-9629-DC3FBAFE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813AD8-E8EF-4AB1-B1B0-5B06DB32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DB487B-73ED-4E5D-8640-5A0A6A6B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F638E3-521A-46CA-901E-F7BBA0D8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5C1AD8-FEF1-478E-BF72-1D04B443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F965DD-687D-42F3-A844-5328A2F3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2E5551-18F4-43EC-8A06-11205024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17DE38-BABE-4B40-9975-58669A8E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66DAFE-6CB1-438E-8AF9-2E423A68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72F150-7C04-4B1F-926B-69D6BF1B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B3609-431B-43B1-88D8-93C22486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3E71-746A-4DD3-9B7C-4AAC2005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E9AEB-0457-46AC-90F5-B1B46E0E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0E7D1-738A-41FA-B4D8-02D6B14A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9DD2A-7FE9-4AA3-9452-2B3FD9F6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FD84C-86D0-4B82-AD3B-765C9477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D4AA2-DE10-455E-89F2-96F742AD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79501-8816-44F2-A26D-8B92536F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108C7-55BA-4E11-8822-5D2F6882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10680-03C1-4F46-AEE3-FF8A61A5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816DF-06FC-4A5B-8650-642C354A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06444-A640-404D-8776-D8659283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738F-7D06-4D1A-A4D0-E4ADD677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35795-31BD-4D93-BC8C-B13D59AA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72BE4-B220-400A-8902-DA96EB33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19D1B-C71A-4418-9B8A-D9F5E231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A46A3-9DD3-495B-84F2-7024C7CF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18010-5D0F-4B18-80CF-326CA78B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40CC8-BEA6-416C-A0DC-C348193D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CF69F-0BFA-48F6-AA13-85C54F9C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84172-B28C-4E3A-B4CE-A3061A20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3CF2F-7E69-48D7-9633-370FFB6F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FC653-2464-4C4C-B956-7D88762A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57E-0E9F-4A0A-8CB8-64733F01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0DEFE-8D63-4EC5-81BD-367901B9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169E9-600C-4B22-88AB-81F7A658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B1505-3842-45F6-B16E-42A075DB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F8E2E-FF7E-480E-964B-BF811041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C44DF-8899-458A-B173-57A95E58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D45F9-223E-482D-928D-897B2BA5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7C798-1331-4553-94A4-66EC6F39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E7E4B-C576-464D-927A-50FE2647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10D8E-1741-44F1-84CB-BC8D79B8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B52DD-BACE-41B9-ADBF-BDA32D0C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1C6B-C46C-4AEA-B1A9-F92F2B24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BDA84-C09E-49F8-8BDE-CAD16528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75D01-FE61-4B8D-A68F-FBCF0BC6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17B65-E373-4634-B7B3-D101D7F6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744D3-5CE6-4B6F-ADCD-0FA5AB57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0151C-79C0-4834-A2BC-87E46B6B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7D76-7511-4089-8769-C093CEE5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73.xml"/><Relationship Id="rId32" Type="http://schemas.openxmlformats.org/officeDocument/2006/relationships/slideLayout" Target="../slideLayouts/slideLayout74.xml"/><Relationship Id="rId33" Type="http://schemas.openxmlformats.org/officeDocument/2006/relationships/slideLayout" Target="../slideLayouts/slideLayout75.xml"/><Relationship Id="rId34" Type="http://schemas.openxmlformats.org/officeDocument/2006/relationships/slideLayout" Target="../slideLayouts/slideLayout76.xml"/><Relationship Id="rId35" Type="http://schemas.openxmlformats.org/officeDocument/2006/relationships/slideLayout" Target="../slideLayouts/slideLayout77.xml"/><Relationship Id="rId36" Type="http://schemas.openxmlformats.org/officeDocument/2006/relationships/slideLayout" Target="../slideLayouts/slideLayout78.xml"/><Relationship Id="rId37" Type="http://schemas.openxmlformats.org/officeDocument/2006/relationships/slideLayout" Target="../slideLayouts/slideLayout79.xml"/><Relationship Id="rId38" Type="http://schemas.openxmlformats.org/officeDocument/2006/relationships/slideLayout" Target="../slideLayouts/slideLayout80.xml"/><Relationship Id="rId39" Type="http://schemas.openxmlformats.org/officeDocument/2006/relationships/slideLayout" Target="../slideLayouts/slideLayout81.xml"/><Relationship Id="rId40" Type="http://schemas.openxmlformats.org/officeDocument/2006/relationships/slideLayout" Target="../slideLayouts/slideLayout82.xml"/><Relationship Id="rId41" Type="http://schemas.openxmlformats.org/officeDocument/2006/relationships/slideLayout" Target="../slideLayouts/slideLayout83.xml"/><Relationship Id="rId42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ACFA-B740-46D6-8AF5-0143B415C28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9257-481A-4B88-BB9E-552892AB421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ccffff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9123-E1D4-4A23-B3A5-3CBF100F5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0167-D0CC-4D24-A0F5-EE85EFE31B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398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41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8DE9-73FA-485A-A2C4-7630F79D0F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454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0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1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2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4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BF11-5E29-4971-B37D-05475A684D3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0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CDA2-3F59-4744-A46A-2F61912B25E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1"/>
    <p:sldLayoutId id="2147483728" r:id="rId32"/>
    <p:sldLayoutId id="2147483729" r:id="rId33"/>
    <p:sldLayoutId id="2147483730" r:id="rId34"/>
    <p:sldLayoutId id="2147483731" r:id="rId35"/>
    <p:sldLayoutId id="2147483732" r:id="rId36"/>
    <p:sldLayoutId id="2147483733" r:id="rId37"/>
    <p:sldLayoutId id="2147483734" r:id="rId38"/>
    <p:sldLayoutId id="2147483735" r:id="rId39"/>
    <p:sldLayoutId id="2147483736" r:id="rId40"/>
    <p:sldLayoutId id="2147483737" r:id="rId41"/>
    <p:sldLayoutId id="2147483738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228600" y="304920"/>
            <a:ext cx="53341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Ancient Egyptian</a:t>
            </a:r>
            <a:endParaRPr b="1" lang="en-US" sz="28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 </a:t>
            </a:r>
            <a:r>
              <a:rPr b="1" lang="en-US" sz="28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Science </a:t>
            </a:r>
            <a:endParaRPr b="1" lang="en-US" sz="28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and Medicine</a:t>
            </a:r>
            <a:endParaRPr b="1" lang="en-US" sz="28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4952880"/>
            <a:ext cx="2933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By: Emily Ehrlich,</a:t>
            </a:r>
            <a:endParaRPr b="1" lang="en-US" sz="24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Sara Baran, </a:t>
            </a:r>
            <a:endParaRPr b="1" lang="en-US" sz="24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and Gabbi Stobb</a:t>
            </a:r>
            <a:endParaRPr b="1" lang="en-US" sz="24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0" y="66294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9614" fill="hold"/>
                                        <p:tgtEl>
                                          <p:spTgt spid="6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 Narrow"/>
              </a:rPr>
              <a:t>Introdu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On top of the Ancient Egyptians’ developments in writing, they made advances in fields of astronomy, mathematics, and med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mong citizens of the ancient world, Egypt was known as a land of great and highly valued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empus Sans ITC"/>
              </a:rPr>
              <a:t>Keeping Track of Tim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Since the Egyptians were agricultural people, they had to be capable of predicting when the Nile River would fl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Astronomers, scientists who study stars and other objects in the sky, noticed that the Nile began to rise rapidly at about the same time that they were able to see Siri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Sirius, otherwise known as the dog star, could be seen in the sky shortly before sunr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Astronomers worked out the approximate time between the appearances of Siriu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They found that it came to approximately three hundred sixty-five days, so it became the length of their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urlz MT"/>
              </a:rPr>
              <a:t>Mathematic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The Egyptians used basic mathematics in finding solutions to conflicts they faced every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They could add, subtract, multiply, and div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The Egyptians utilized simple fractions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Math helped them measure stone in order for it to be cut to the proper size to build pyram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Geometry was used to measure area so the Egyptians could figure out the quantity of taxes for a plot of land.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235" dur="50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Arial"/>
              </a:rPr>
              <a:t>Medicine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Religion and medicine went hand in hand in ancient Egypt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Doctors were specially trained priests that used religious practices and their knowledge of diseases to attempt to heal the ill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Supposedly, because of their work on  mummies, the ancient Egyptians knew a great deal of information about the bod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By studying the human body, they learned how to give surgery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The set broken bones, and treated many slight injuri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2" dur="2000" fill="hold"/>
                                        <p:tgtEl>
                                          <p:spTgt spid="7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30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0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3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radley Hand ITC"/>
              </a:rPr>
              <a:t>Medicine (continued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e Egyptians understood the concept of herbal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Herbalism is the practice of composing medicines from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e natural remedies were used to help ease common, everyday sicknesses such as headaches and stomachach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At home, mothers prepared their own remedies, or cures, to reduce their children’s fe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e Egyptians wrote a lot of their medical knowledge down on papyrus, which the ancient Greeks and Romans used centuries later.  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473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78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7" dur="5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6" dur="5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5" dur="5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7696080" y="5105520"/>
            <a:ext cx="1148040" cy="16002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154160" cy="186840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228600" y="5181480"/>
            <a:ext cx="1924200" cy="153684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4"/>
          <a:stretch/>
        </p:blipFill>
        <p:spPr>
          <a:xfrm>
            <a:off x="7010280" y="3049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 txBox="1"/>
          <p:nvPr/>
        </p:nvSpPr>
        <p:spPr>
          <a:xfrm>
            <a:off x="457200" y="2209680"/>
            <a:ext cx="86868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Jokerman"/>
              </a:rPr>
              <a:t>We Hope You Enjoyed Ou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atin typeface="Jokerman"/>
              <a:ea typeface="Joker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Jokerman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Jokerman"/>
              </a:rPr>
              <a:t>Presentation And Learned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atin typeface="Jokerman"/>
              <a:ea typeface="Joker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Jokerman"/>
              </a:rPr>
              <a:t>A Lot!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atin typeface="Jokerman"/>
              <a:ea typeface="Joker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5"/>
          <a:stretch/>
        </p:blipFill>
        <p:spPr>
          <a:xfrm>
            <a:off x="77724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7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68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575" dur="1230" fill="hold"/>
                                        <p:tgtEl>
                                          <p:spTgt spid="71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576" dur="123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57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578" dur="123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57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4" dur="5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713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713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8" dur="1996" fill="hold"/>
                                        <p:tgtEl>
                                          <p:spTgt spid="7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7:56:51Z</dcterms:created>
  <dc:creator>William Ehrlich</dc:creator>
  <dc:description/>
  <dc:language>en-US</dc:language>
  <cp:lastModifiedBy>Default</cp:lastModifiedBy>
  <dcterms:modified xsi:type="dcterms:W3CDTF">2009-01-15T17:34:02Z</dcterms:modified>
  <cp:revision>17</cp:revision>
  <dc:subject/>
  <dc:title>Slide 1</dc:title>
</cp:coreProperties>
</file>